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186-D40E-49E7-A96A-7B18DBAF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CEB4-8907-4A0D-BD5A-36FFD0BD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1A1-C36B-4C04-8151-1166E167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2EA-2419-4D15-A31B-89FE91E02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4513-0BC0-4B0A-8825-C96584D7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33EF-7D42-4885-8D74-F670D9C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783-37F3-4D43-97EA-E9BCE197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E91-8ECB-4592-9E19-E94727EF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881-F5CB-4D28-9A29-BD6DDDA5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04D-CBBC-4B1F-BDB2-A19D6DC1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20A-1986-4F58-9CE5-2B5C4CD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5F1-6CCB-416C-B1EE-6811C209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0CB9-5CA3-429F-AC64-F86634743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7055312TKFvGq_ph" descr=""/>
          <p:cNvPicPr/>
          <p:nvPr/>
        </p:nvPicPr>
        <p:blipFill>
          <a:blip r:embed="rId1"/>
          <a:stretch/>
        </p:blipFill>
        <p:spPr>
          <a:xfrm>
            <a:off x="20574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9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من مات على الصليب من أجل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cs typeface="Simplified Arabic"/>
              </a:rPr>
              <a:t>فلتكن كأس دمك مشعلاً  لهدايت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Arial"/>
                <a:ea typeface="Simplified Arabic"/>
              </a:rPr>
              <a:t> أيها الربُ الإله يا من خلصتنا من خطايانــا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طلـب منك اليـوم أن تخلصنـا من آلامنـ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28:14Z</dcterms:created>
  <dc:creator>SUZANNE.MD</dc:creator>
  <dc:description/>
  <dc:language>en-US</dc:language>
  <cp:lastModifiedBy>SUZANNE.MD</cp:lastModifiedBy>
  <dcterms:modified xsi:type="dcterms:W3CDTF">2003-03-16T09:29:47Z</dcterms:modified>
  <cp:revision>1</cp:revision>
  <dc:subject/>
  <dc:title>PowerPoint Presentation</dc:title>
</cp:coreProperties>
</file>